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99075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600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20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59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20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59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1C5F5-59FD-4D9E-AAAB-500A861097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BDEC0-5F05-42D2-8FB9-021032B4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7239D-66D1-4AAD-956A-46AF4344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09064-982A-4251-AF3D-EA3CCADC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D2CE2-D3FD-4BA4-8B87-58E81CEA7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BBB13-B59F-446B-807B-DC2B5B92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65D3C-ED9E-4DC4-A59E-A3A4F0D5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600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1A0B5-5435-412E-B060-DC29FA9B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80E13-E82E-4605-A54F-D1B1CC7D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808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B6884-04E0-4196-B20A-25115DA3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600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94C25-DF7D-403F-8805-745A4CA1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920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59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3808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920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59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3D405-2E25-4252-AFCE-9F833B79F7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600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6400800"/>
            <a:ext cx="6324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TTÜ </a:t>
            </a:r>
            <a:r>
              <a:rPr b="1" lang="et-EE" sz="1000" spc="-1" strike="noStrike">
                <a:solidFill>
                  <a:srgbClr val="6666ff"/>
                </a:solidFill>
                <a:latin typeface="Arial"/>
              </a:rPr>
              <a:t>200</a:t>
            </a:r>
            <a:r>
              <a:rPr b="1" lang="en-US" sz="1000" spc="-1" strike="noStrike">
                <a:solidFill>
                  <a:srgbClr val="6666ff"/>
                </a:solidFill>
                <a:latin typeface="Arial"/>
              </a:rPr>
              <a:t>5</a:t>
            </a: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    T.Tammet    Programmeerimine </a:t>
            </a:r>
            <a:r>
              <a:rPr b="1" lang="et-EE" sz="1000" spc="-1" strike="noStrike">
                <a:solidFill>
                  <a:srgbClr val="6666ff"/>
                </a:solidFill>
                <a:latin typeface="Arial"/>
              </a:rPr>
              <a:t>      1</a:t>
            </a: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  loeng 1   lk   </a:t>
            </a:r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- </a:t>
            </a:r>
            <a:fld id="{5695A490-1687-4A6E-85AA-926359580DC1}" type="slidenum">
              <a:rPr b="1" lang="en-GB" sz="1400" spc="-1" strike="noStrike">
                <a:solidFill>
                  <a:srgbClr val="6666ff"/>
                </a:solidFill>
                <a:latin typeface="Arial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6324480"/>
            <a:ext cx="7772400" cy="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2120" y="6324480"/>
            <a:ext cx="4190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 u="sng">
                <a:solidFill>
                  <a:srgbClr val="6666ff"/>
                </a:solidFill>
                <a:uFillTx/>
                <a:latin typeface="Arial"/>
              </a:rPr>
              <a:t>TTÜ 1999 T.Tammet  IT sissejuhat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838080" y="6248520"/>
            <a:ext cx="7772400" cy="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90E0-9CF5-4186-9F97-77A05F4E6E5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ath.hws.edu/javanotes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java.sun.com/j2se/downloads.html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grammeerimi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põhikurs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I001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84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Kursuse </a:t>
            </a:r>
            <a:r>
              <a:rPr b="1" i="1" lang="en-GB" sz="2400" spc="-1" strike="noStrike">
                <a:solidFill>
                  <a:srgbClr val="000099"/>
                </a:solidFill>
                <a:latin typeface="Arial"/>
              </a:rPr>
              <a:t>esialgne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loengukav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ssejuhatus, meeldetuletus, Java kasutamine, Java ja C võrdlus, lihtsad näited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htimiskonstruktsioonid ja tsüklid. Funktsioonid ehk alamprogrammid. Lühisissejuhatus klassidesse.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med. Massiivid ja struktuurid. Failid. Võrk. Veatöötlu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ilide kasutamise jätk. Binaarne otsing, sorteerimine, rekursio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rteerimise jätk. Seejärel: objektid ja klassid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ktide jätk. Seejärel: Graafika ja kasutajaliid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sutajaliides: komponendid, sündmus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lmas praktikum: olulist, näiteid võrgurakenduses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lmas praktikum: olulist, näiteid GUI tegemises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UI tegemise lisainfot. Otsingualgoritmide algu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singualgoritmide jätk. Neljanda praktikumi sissejuhatu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erukamad andmestruktuurid. Puud, hash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ldiste süntaksianalüü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id, threadid ja protsessid: paralleeltöö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ndusmetoodikad ja abivahendi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RDAMINE JA RESERV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RDAMINE JA RESERV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29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Programmi kirjutamise etapid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ting the program text into the computer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ing the program, a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nning the compiled program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l step - running the program - either 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cation - program running without a www brow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et- program running in a www brow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Servle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program running in a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web)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34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Java: APPLIC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elloWorld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A program to display the mess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"Hello World!" on standard out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Hello World!"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// end of class HelloWor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pileerime: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va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elloWorld.jav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=&gt;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HelloWorld.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me käsurealt käima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ava HelloWor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unction call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with a defini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39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Java: APPLE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838080" y="380880"/>
            <a:ext cx="7770600" cy="303120"/>
            <a:chOff x="838080" y="380880"/>
            <a:chExt cx="7770600" cy="303120"/>
          </a:xfrm>
        </p:grpSpPr>
        <p:sp>
          <p:nvSpPr>
            <p:cNvPr id="143" name=""/>
            <p:cNvSpPr/>
            <p:nvPr/>
          </p:nvSpPr>
          <p:spPr>
            <a:xfrm>
              <a:off x="838080" y="68400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8608680" y="38088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923400" y="4038480"/>
            <a:ext cx="578916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mpileerime:  javac Helloa.jav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elloa.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ML failis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re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e on Hello apple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applet code =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loa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width=120 height=120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applet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lo applet lopp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applet.*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awt.*  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Helloa extends Appl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init() {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ize(300, 500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blic void paint(Graphics g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drawString("Hello", 10,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5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ompiler, bytecod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50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52480" y="2895480"/>
            <a:ext cx="5664240" cy="1136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Executing bytecod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56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90720" y="2590920"/>
            <a:ext cx="6933960" cy="2071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Program class structur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gram is defined by a public class that takes the for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gram-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tional-variable-declarations-and-subrout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tional-variable-declarations-and-subrout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62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Variables &amp; primitive nam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  n  rate  x15   a_long_name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ime_is_$   HelloWor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elloWorld, helloworld, HELLOWORLD, and hElloWorLD are all distinct na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rved words include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, public, static, if, else, while, and several dozen other word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ssignment statement takes the for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te = 0.07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est = rate * principal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67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Da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h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ery 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ta types built into it, and you (as a programmer) can create as many more as you want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other than the primitive data type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the other data in a Java program will be represented as an obj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So there is a fundamental split in the data a Java program deals with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+------------------------+----------------------+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                 |                      |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Primitive types       |       Objects        |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                 |                      |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+------------------------+----------------------+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72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Primitive TYP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imitive types are name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yte, short, int, long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oat, double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Symbol" charset="2"/>
              <a:buChar char="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o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rresponds to two bytes (16 bits). Variables of type short have values in the range -32768 to 32767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Symbol" charset="2"/>
              <a:buChar char="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rresponds to four bytes (32 bits). Variables of type int have values in the range -2147483648 to 2147483647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Symbol" charset="2"/>
              <a:buChar char="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rresponds to eight bytes (64 bits). Variables of type long have values in the range -922337203685477580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to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9223372036854775807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sult: rate &gt; 0.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I said, \"Are you listening!\"\n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77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Loengu sisu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Ülevaade kursuse eesmärkid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irjandus, vii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oimumisajad, lektor, assistendid, eksam j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raktikumi tööd, tähtajad, põhimõt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Loenguka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Java mootor, kompileerimine, eripär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Java, C ja C#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Lihtsad näited, muutujad, andmetüüb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89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Variable assignmen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-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-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-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-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x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rate = 0.07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space = ' '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create several variables in the same declaration, if you separate them by commas. For 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x,y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first = 'D'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ddle = 'J'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st = 'E'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, j = 17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82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Interest calcul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Interest {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the value of the investment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principal = 17000;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the annual interest r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rate = 0.07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interest earned in one ye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interest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est = principal * rate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cipal = principal + interes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The interest earned is $"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interest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The value of the investment after one year is $"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principal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end of main()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end of class Intere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87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lo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lock is the simplest type of statement. Its purpose is simply to group a sequence of statements into a single statement. The format of a block 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 are two examples of block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The answer is "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ans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  // This block exchanges the values of x and 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temp = x;  // declare temp and store x in i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 = y;         // copy value of y into x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y = temp;      // copy value of temp into 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92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While LOOP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while loop has the for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-express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the statement can be, and usually is, a block, many while loops have the for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-express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97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While LOOP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is an example of a while loop that simply prints out the numbers 1, 2, 3, 4, 5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ber = 1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 number &lt; 6 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ber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number + 1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Done!"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202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While LOOP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Interest2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principal = 17000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rate = 0.07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years = 0;  // counts yea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years &lt; 5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interest = principal * rate;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cipal = principal + interes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ears = years + 1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The value of the investment after "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years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 years is $");     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principal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end of while loop            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end of main(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end of class Interest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207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IF statemen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if statement has one of the form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olean-express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olean-express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usual, each of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e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in an if statement can be a block, so that an if statement often looks lik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olean-express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-express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) {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212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IF statemen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x &gt; y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temp = x;  // declare temp and store x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= y;         // copy value of y into 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 = temp;      // copy value of temp into 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ly, here is an example of an if statement that includes a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 par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years &gt; 1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The value of the investment after "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years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 years is $"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 {  // handle case for 1 ye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The value of the investment after 1 year is $"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 // end of if stat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principal)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217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Kursuse eesmärk</a:t>
            </a: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, eeldused, põhimõtte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Õpetada programmeerimise aluseid ja tehnoloogiat üldisel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Eeldade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rget varasemat kokkupuutumist programmeerimisega vähemalt eeldusaine Informaatika II mah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õhk on praktiliste kogemuste ja oskuste omandamisel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praktikumitöö on tähtsam, kui loeng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askeelena kasutatakse Javat, vältides samas eriliselt Java-päraseid meetodeid, teeke jms.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Ei ole spetsiaalne “Java-kursus”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aktikumides loodavad rakendused on reeglina käsurea ja omaette akendega rakendused, mitte apletid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ursuse lõpetaja on alle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GAJ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rogrammeerija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94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-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Kursuse aeg, koht, eksam, praktikum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engud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maspäeviti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l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00-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ruum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-131 (kohe fuajee kõrval). Semestri teisel poolel toimuvad loengud ruumis VI-229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enguid loeb T.Tamm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okku 16 (?) loeng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raktikumid eraldi AK arvutiklassides: eri gruppidel eri aegadel, 1 praktikum nädal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aktikum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orraldavad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ssistendi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Mihkel Tammepuu,  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ursus lõpeb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EKSAMIGA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ursuse edukaks lõpetamiseks tuleb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ha ära praktilised tööd, neid tuleb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oritada edukalt ek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99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Kursuse materjali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ursuse www-leh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http://www.lambda.ee/index.php/Programmeerimise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õ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hikurs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mine õpik kursuse juurde on tasuta e-book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vid Ec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“Introduction to Programming Using Jav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Fourth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dition,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umm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 u="sng">
                <a:solidFill>
                  <a:srgbClr val="6600cc"/>
                </a:solidFill>
                <a:uFillTx/>
                <a:latin typeface="Arial"/>
                <a:hlinkClick r:id="rId1"/>
              </a:rPr>
              <a:t>http://math.hws.edu/javanotes/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terjalid ilmuvad loengute eel või järel võrku. Alati on olemas loengu üldplaan ja põhipunktid, kuid palju seletavaid detaile on võrgus puudu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04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Eksami ja praktikumi ülesanded ja nõude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Eksam: kirjalik, lisamaterjale kasutada ei võ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raktikumi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seseisev töö (ei mingeid gru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sejuhatav ülesanne: see näd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Neli ülesanne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imene rakendus: tikumäng, ainult tekstilii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ähtaeg: 24. septemb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on esialgsed variandid, mida muudetak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kstifailidest mikroandmebaas, ainult tekstili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ähtaeg: 22 oktoob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UI-ga võrgurakendus (http-d kasutav klient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ähtaeg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. nove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UI-ga connect-four mäng (otsing mängupuust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ähtaeg: 17. detse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09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Olulist praktikumi koh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ksamile pääsemiseks peavad olema sooritatud vähemalt kolm neljast praktikumi-ülesandest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hul, kui üks neljast ülesandest jääb realiseerimata, saab selle eest eksamil 10 trahvipunkti (eksami maksimumpunktid on 100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ga hilinenud ülesanne annab 5 trahvipunkti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ärast 17. detsembrit ei aktsepteerita enam ühtegi ülesannet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ga ülesanne tuleb programmeerida iseseisvalt ja näidata praktikumi juhendajale praktikumi ajal ett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-postiga saadetud lahendusi ei aktsepteerita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B! Ülesande arvestamiseks ütle juhendajale praktikumi ajal ise, kui soovid lahendatud ülesannet näidata: juhendaja ei hakka reeglina ise õigeagselt uurima, et kas on ülesanne ikka tehtu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14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Vajalik tarkvara kodus töötamiseks (kes soovib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Java versio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2SE (Java 2 standard edition) SDK (software dev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ment kit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õmba SUN-i lehelt </a:t>
            </a:r>
            <a:r>
              <a:rPr b="0" lang="en-GB" sz="1800" spc="-1" strike="noStrike" u="sng">
                <a:solidFill>
                  <a:srgbClr val="6600cc"/>
                </a:solidFill>
                <a:uFillTx/>
                <a:latin typeface="Arial"/>
                <a:hlinkClick r:id="rId1"/>
              </a:rPr>
              <a:t>http://java.sun.com/j2se/downloads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vähemalt 1.3.1 või uuem versio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B! Vajalik on SDK, mitte JRE, ja nimelt J2SE (standard edition), mitte J2ME (micro edition) või J2EE (enterprise editio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Hea ja lihtne programmeerisele kohandatud tekstiredaktor. Soovita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daktor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ciTE: http://www.scintilla.org/SciTE.ht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19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Kursuse teema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ptember: juhtimiskonstruktsioonid, andme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ktoober: objektid, kasutajaliides ja graafik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vember: otsing, rekursioon, puu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tsember: paralleeltöö, metoodika, var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24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</cp:lastModifiedBy>
  <dcterms:modified xsi:type="dcterms:W3CDTF">2005-08-28T20:33:22Z</dcterms:modified>
  <cp:revision>43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ttu.ee/it/vorgutarkvara/wai4040/</vt:lpwstr>
  </property>
  <property fmtid="{D5CDD505-2E9C-101B-9397-08002B2CF9AE}" pid="9" name="LinkColor">
    <vt:r8>16711782</vt:r8>
  </property>
  <property fmtid="{D5CDD505-2E9C-101B-9397-08002B2CF9AE}" pid="10" name="MailAddress">
    <vt:lpwstr>tammet@cc.ttu.ee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tty\javakursu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